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FBB-062C-4C52-86B6-2946D7B5E110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4089-AFFA-4AAB-B0FA-5CD0FD92FA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7F78-E740-4BA1-AD4C-AAF78C7EA5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9DE4-A44B-4643-B895-77EC2F6C12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Espace réservé du pied de page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A7D4-5F70-4C19-9AD6-997562BDE3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49B9-1343-4A71-8C27-233C5894B5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Espace réservé du pied de page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éthodes et Pratiques Professionnelles des Psychologues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C485-191C-47A0-B73C-A49DF92539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B022-DEF3-4F91-8C07-57FB08BD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6A99ED-DEF9-4013-94A9-32D89E99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DD638-5FFA-48E7-A2B2-276DED0F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DB706-5686-4467-AE03-9000D9A7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B8BA8-F62E-4BCA-87A1-9D9BE1EB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98B72-89B7-4FA3-9E2D-41290D1E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BC399C-6701-4714-831F-CA2DDA6B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AACDC-D3EE-4443-B2A5-10860AC0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D51DD4-25EA-4004-916F-3D80E39A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8B87E0-0D01-460E-B438-48149C19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50E1DB-2EE0-422A-9E50-920AA8AE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530D-AFBF-426E-BBD2-6CC67DD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EC32AD-F79E-4C34-8E5F-AC14E25A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350DF-3F33-4F17-814B-9E3B79B3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23621-3B32-4E8D-9BA3-560736F1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3B225B-F6AF-48AF-A538-9BF489B5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D27617-31EC-4206-9553-33BD0466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DD00EF-25FA-423A-A248-AF081643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2C95CD-D136-45F1-A50A-FD537AB2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D3D23E-2EBD-4B5E-A261-CA8C7FC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AF7A1D-C52B-4D69-A309-11F5CF6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830826-0AC4-42CF-B970-8F6F03E7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C0FA-0A57-42CE-A91D-43A0FC663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FE467-64F7-4510-B8CD-41798139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06FAF-9E3B-48E5-B96E-DB7CC796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9A26E8-7202-4C18-99F4-0B1211D1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C8393F-315A-4708-B3DB-0B92A565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84A4B7-C236-4B13-A2BC-D651B32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C6B608-75B3-4DC8-BAEA-F496698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5A0D72-C38C-4916-9FE0-B08FF88D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73E64F-345F-48E3-BF52-47B0E0B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AE4E18-499B-4342-9FA6-2A15BBF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136918-BAD5-4C11-866D-D2794DF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A565-E02B-486F-8828-0A962512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BACE5F-4DE5-48A8-B963-E192B813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E2E140-B506-443C-8B8E-80441574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0854EC-9048-4CDC-834E-0640F050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979D02-0F66-43D4-B9B4-96C72E66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0D79D9-F8AC-4C68-BB68-66E1AAC5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DE7979-BF11-4B57-ADD0-F1337DCB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CD9C87-B206-4C8E-8502-29D3F7FA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31DE8B-92A7-4CB8-BC55-C8C31F36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3F2B0F-5CD6-42E3-89E7-86B43778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CEF804-B369-4F66-8210-718BC477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C4F58-EBC1-493E-AEE3-07881473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F08160-E62D-42B8-8DB5-E57CC4D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700292-3526-4192-8D6E-AFA545F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69D6AC-B7B9-4799-8DC3-1B88160B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43EFA2-3FE3-471B-A2D9-8E51E297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549996-92C2-49DE-BD36-9D7D4A38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8C534-BEA7-45DF-A94F-53EDAB99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0B82E-47CF-41D6-BCF4-A482548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59CA6-71CC-4BF1-8632-5A2D86DB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5894-8235-4B79-B546-5A7362E6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6A139-6F2E-48E7-8ECD-42DEE00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F958-1552-42D6-8D27-AA1D7935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F66C8-3680-45CD-B71C-2AFC2EA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FAFD-6E21-490F-8A63-84ED8A6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EF3F-8154-41BD-98DC-2B8991B1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76713-9F33-4E65-B276-A38083FA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426D-C52A-4A1B-8937-A8998E29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1B370-580B-4AF2-A31D-E83FA740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F153E-19CA-4011-AC5E-4E392AAE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039F7-BB44-4287-9634-B6333E82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588D5-B01D-4F86-A3EF-27BBA46A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1CF18-A3B1-4AA8-8F4D-D788505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2AE8-1B0B-4264-B4BD-95AE86FB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46603-4E36-4089-8785-A204BE08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8EC40-BF38-42BA-B63B-0EAC42FC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466B4-FC28-482E-B8B8-FBCB1B1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05A3B-A295-4721-A555-A8087DF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531DD-0908-48E0-BF26-5DBA4215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EEFA2-4FA0-4849-AC89-E4CBF418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23F9B-A12D-4773-BFA2-5BE43D12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69F8F-72F5-4E64-933C-19E0A4CD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DE239E-4C6C-4442-9CF3-899E1C15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6F680-4196-4DE3-ADDB-AE2F5045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4B21-77D6-42BD-AD4F-369E38B3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75F7D-D1D0-4169-B5D7-80D5411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2D1C0-4125-4F61-9A90-3AF7C101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4679A-F972-4C5D-B96F-6CE25A3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F0950-4E00-4BCF-9C0E-B39BECE4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0F655-C1A4-4E5F-9E65-546BB10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290AE-CCA5-4E99-8222-3DDE8AB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AF03CD-9005-4A2D-8021-9AC082AB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5434B-393A-4502-BFC1-95FFF6B6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ACFB30-9532-47A8-AA9B-19052D88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852C9-EACC-4AC5-ACC9-FD400A6C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456C-3771-48EE-8BFB-3514715E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2A2DC-E550-4FC5-AECC-D746191F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F91DE-BBF5-4E69-8090-A2EB6A7A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1BC55-F69C-4B7F-998A-1F298357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ABE56-6EA3-4624-BB8D-9DA7342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99D18-7AC5-46DC-9CD6-9D22AFA5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BDBFD4-50AA-4F30-A500-06C250D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73FC2-6FB4-4351-B56A-833E37AA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1BA7E-957B-40EE-BDD4-EE6321D0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6B893-1DDA-450E-A567-9DF5687A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43934-7848-40FF-8842-CAFA1DBB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C273-1B85-42DF-A33F-F6847857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D4786-BDC4-4907-9038-67D6DAAF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B5F61-9155-425C-AD88-41D60ABA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07E69-4C4B-47F0-B32D-C91C6B88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4938A-830D-454B-A65F-BC6B787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2C0FE-4AF9-4BFF-BDCF-B734DDA0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3B586D-61FD-4250-8FAF-6D4B14E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44181-B3FE-4174-B166-57582186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94187-4E38-465B-8389-A0AF0318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16B61-1B5D-42CD-BF55-CBD07337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989DB-29E6-4A12-A14A-CCDFC38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BC1F-BF86-4C69-9ADE-F112F1AB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71A96-379C-455E-8EA4-D40BA5DD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44BF70-C69B-4229-B747-02D35577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9B290-52E5-476F-96A1-2CD01BB8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B984B-5876-4C72-9908-ED8BAF27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AAEBE-EF9B-47F8-8E0B-D79DCA9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9001B-97AB-4E92-8A7D-668CEFFE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A4969F-E93B-4EE3-BF77-EE8E0BFD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139D2-F397-45C4-91EA-091CF88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F6512-595B-4627-8DD5-0269FC32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F20DC-D6E3-4DFE-AA57-8D22F42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632A-C6D6-4FC1-8C5F-031F1CF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F5074-4BB7-40E7-B2C5-1F36024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2B12A-85DD-48B8-9313-063C7A9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759107-C6B8-4127-BA8E-C2E7BD3A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0E0BB-C30E-48B5-8668-6F2DCC09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4BF381-1C10-4E76-923F-915CBA68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644CE-9FCC-41A3-84DC-E2B3739A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74A510-1DD6-4A74-A3B0-8895414B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1E549F-4A47-4BC5-BBCC-2EE82D43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BB56F-83C1-4253-A667-02D2BF66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C22C9-F5EA-4B84-ABBA-AC32F987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FC58-8435-4494-8410-1D44BE2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216776-9425-4DB3-889C-78A9572A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EADAB-F13E-40ED-9AEE-FA0184D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0DAB2C-5CA9-4BF9-A6D0-B198999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8D386-E850-46B7-BF2A-D90AB7D2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7D11EF-BF79-43A7-BCB2-46C1240A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EA5250-7CF6-43E0-A669-0268DEA3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735BBB-93C4-4B85-92D5-1BE69430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5443F0-5D9F-4382-989A-CA261149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C2D2C-C941-4947-969F-EC51B5F9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84B19-209F-42F5-B0A1-7E06C65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275-37F2-4CD1-B66F-DD3CB142985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7862-C7EA-496B-B435-84900917A685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7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C76-FC4C-451F-89A8-15128D33F81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0073-2191-4D4E-B2E7-A6170827F25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30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1D48-2A0F-4268-BD94-28158937453B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EB52-FD03-4F23-A149-28F74E96A2B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B24F-F466-451F-B6AF-849A2D19D17D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815B-50D9-49A0-9EDF-0351543F6BF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E38-860B-422B-AABA-805B5923C570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213-F216-4B56-A476-BEA099055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56E-0A74-467D-AB0F-C414F33199A8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A6B7-3D9E-427C-BE72-70D6E49FD69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9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BE8-DA5F-4354-97DE-2CE34BC9002A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8F08-9398-4E50-89B5-6CDC8994D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87A2-97CE-47AA-B44A-05B44EC30B29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6916-7818-4B9B-9E22-B7E4CFE2D07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5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576C-54FA-4E9F-9F80-374140833B00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891-5B9A-4523-828E-79FAE0AA9D3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B00B-9D6B-4726-9741-32A2FB2B7201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9102-0F28-4D8B-8C00-0AF7E0F0D6E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21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A5E0-469A-494E-861D-FF4B29E6E14B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DDB-63EC-4D72-A4CE-7EA15B01BEC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4"/>
          </p:nvPr>
        </p:nvSpPr>
        <p:spPr>
          <a:xfrm>
            <a:off x="457200" y="6356520"/>
            <a:ext cx="41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C747-4AFD-471E-86F4-3B2521D336FB}" type="datetime2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mardi 28 juillet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B284-06F6-4386-A9E5-0562A8190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nddictionnaire.com/btml/fra/r_motclef/index1024_1.asp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sp.ulaval.ca/docs/Le_plagiat_informer_sensibiliser_et_prevenir.pdf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bliotheques.uqam.ca/plagiat" TargetMode="External"/><Relationship Id="rId2" Type="http://schemas.openxmlformats.org/officeDocument/2006/relationships/hyperlink" Target="http://passeurdesciences.blog.lemonde.fr/2012/01/26/le-plagiat-un-mal-qui-frappe-aussi-la-science/" TargetMode="External"/><Relationship Id="rId3" Type="http://schemas.openxmlformats.org/officeDocument/2006/relationships/hyperlink" Target="http://archeologie-copier-coller.com/?p=65" TargetMode="External"/><Relationship Id="rId4" Type="http://schemas.openxmlformats.org/officeDocument/2006/relationships/hyperlink" Target="http://archeologie-copier-coller.com/?p=65" TargetMode="External"/><Relationship Id="rId5" Type="http://schemas.openxmlformats.org/officeDocument/2006/relationships/hyperlink" Target="http://archeologie-copier-coller.com/?p=65" TargetMode="External"/><Relationship Id="rId6" Type="http://schemas.openxmlformats.org/officeDocument/2006/relationships/hyperlink" Target="http://archeologie-copier-coller.com/?p=2499" TargetMode="External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4920" y="178128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a50021"/>
                </a:solidFill>
                <a:latin typeface="Arial"/>
              </a:rPr>
              <a:t>Qu’est ce que le plagiat ?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"/>
          <p:cNvSpPr/>
          <p:nvPr/>
        </p:nvSpPr>
        <p:spPr>
          <a:xfrm>
            <a:off x="34920" y="4086360"/>
            <a:ext cx="896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Palatino Linotype"/>
              </a:rPr>
              <a:t>Document préparé p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Palatino Linotype"/>
              </a:rPr>
              <a:t>Frédéric Isel et Yves Goubat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Université Paris Descar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 </a:t>
            </a:r>
            <a:r>
              <a:rPr b="0" i="1" lang="fr-FR" sz="2400" spc="-1" strike="noStrike">
                <a:solidFill>
                  <a:srgbClr val="a50021"/>
                </a:solidFill>
                <a:latin typeface="Palatino Linotype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Espace réservé du pied de page 7"/>
          <p:cNvSpPr/>
          <p:nvPr/>
        </p:nvSpPr>
        <p:spPr>
          <a:xfrm>
            <a:off x="360360" y="6381720"/>
            <a:ext cx="1018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© Université Paris Nanterre – UFR PHILLIA - Département de sciences du lang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Image 8" descr="UPL_logo.png"/>
          <p:cNvPicPr/>
          <p:nvPr/>
        </p:nvPicPr>
        <p:blipFill>
          <a:blip r:embed="rId1"/>
          <a:stretch/>
        </p:blipFill>
        <p:spPr>
          <a:xfrm>
            <a:off x="4519440" y="189000"/>
            <a:ext cx="2068560" cy="1079280"/>
          </a:xfrm>
          <a:prstGeom prst="rect">
            <a:avLst/>
          </a:prstGeom>
          <a:ln w="0">
            <a:noFill/>
          </a:ln>
        </p:spPr>
      </p:pic>
      <p:pic>
        <p:nvPicPr>
          <p:cNvPr id="502" name="Image 6" descr=""/>
          <p:cNvPicPr/>
          <p:nvPr/>
        </p:nvPicPr>
        <p:blipFill>
          <a:blip r:embed="rId2"/>
          <a:stretch/>
        </p:blipFill>
        <p:spPr>
          <a:xfrm>
            <a:off x="324000" y="152280"/>
            <a:ext cx="3690720" cy="11160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1" descr=""/>
          <p:cNvPicPr/>
          <p:nvPr/>
        </p:nvPicPr>
        <p:blipFill>
          <a:blip r:embed="rId3"/>
          <a:stretch/>
        </p:blipFill>
        <p:spPr>
          <a:xfrm>
            <a:off x="6877080" y="160200"/>
            <a:ext cx="18651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Informer, Sensibiliser, Prévenir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1916280"/>
            <a:ext cx="91440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 plagiat : informer, sensibiliser et préveni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z sur le plagi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Ressource Université Laval, Québec, Canad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4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98D6-0626-4FC4-BF7C-1B89C0FC2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108000" y="115920"/>
            <a:ext cx="85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a50021"/>
                </a:solidFill>
                <a:latin typeface="Arial"/>
              </a:rPr>
              <a:t>Références bibliographiques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1783-8418-49D0-B9A5-83A108F25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oneTexte 5"/>
          <p:cNvSpPr/>
          <p:nvPr/>
        </p:nvSpPr>
        <p:spPr>
          <a:xfrm>
            <a:off x="179280" y="1324080"/>
            <a:ext cx="8964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 (2009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es clics et des droits : le droit appliqué à l’imag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Battisti, M., &amp; Association française des documentalistes et des bibliothécaires spécialisés. (2012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Quels droits pour copier aujourd’hui ? : copier et diffuser une œuvre dans l’environnement numérique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ADBS éditions. En ligne : </a:t>
            </a:r>
            <a:br>
              <a:rPr sz="2000"/>
            </a:br>
            <a:r>
              <a:rPr b="0" lang="fr-FR" sz="1600" spc="-1" strike="noStrike">
                <a:solidFill>
                  <a:srgbClr val="000000"/>
                </a:solidFill>
                <a:latin typeface="Ebrima"/>
              </a:rPr>
              <a:t>https://frodon.univ-paris5.fr/http/parisdescartes.immateriel.fr/fr/ebook/97828436513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aurel-Indart, H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Du plagiat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Gallim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Moreau, É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Les droits d’auteur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. Paris : Transvalor-Presses des M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Stérin, A.-L. (2011). </a:t>
            </a:r>
            <a:r>
              <a:rPr b="0" i="1" lang="fr-FR" sz="2000" spc="-1" strike="noStrike">
                <a:solidFill>
                  <a:srgbClr val="000000"/>
                </a:solidFill>
                <a:latin typeface="Ebrima"/>
              </a:rPr>
              <a:t>Guide pratique du droit d’auteur : utiliser en toute légalité textes, photos, films, musiques, Internet. </a:t>
            </a:r>
            <a:r>
              <a:rPr b="0" lang="fr-FR" sz="2000" spc="-1" strike="noStrike">
                <a:solidFill>
                  <a:srgbClr val="000000"/>
                </a:solidFill>
                <a:latin typeface="Ebrima"/>
              </a:rPr>
              <a:t>Paris : Maxima-Laurent Du Mesnil é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504720" y="115920"/>
            <a:ext cx="896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Arial"/>
                <a:ea typeface="Arial"/>
              </a:rPr>
              <a:t>Le plagiat :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95280" y="1484280"/>
            <a:ext cx="820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lusieurs définitions et plusieurs formes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5280" y="2997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Définition du grand dictionnaire terminologique 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 Utilisation des écrits d'autrui sans mention d'emprunt » 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(</a:t>
            </a:r>
            <a:r>
              <a:rPr b="0" lang="fr-FR" sz="26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Office de la langue française, 1990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CCEB-85A3-410D-BC47-9931A891C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us généralement, « le 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plagia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onsiste à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141300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s’attribuer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 les propos, les productions ou les idées d’autrui, sans citer la source ou l’auteur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2565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s’approprier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contenus disponibles sur Internet, en format texte, audio, vidéo, image ou autre sans citer la source ou en paraphrasant de manière inadéqua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-1440" y="4292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agir de manière à contourner les règl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noncées lors des travaux d’évaluation.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E503-7A8E-4248-883C-2D5DE80C1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a50021"/>
                </a:solidFill>
                <a:latin typeface="Arial"/>
              </a:rPr>
              <a:t>Pratiques associées au copier-coller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105264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Copier</a:t>
            </a:r>
            <a:r>
              <a:rPr b="0" lang="en-GB" sz="28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Ebrima"/>
              </a:rPr>
              <a:t>le travail d’un étudiant </a:t>
            </a:r>
            <a:r>
              <a:rPr b="0" lang="en-GB" sz="2800" spc="-1" strike="noStrike">
                <a:solidFill>
                  <a:srgbClr val="000000"/>
                </a:solidFill>
                <a:latin typeface="Ebrima"/>
              </a:rPr>
              <a:t>ayant suivi le cours lors d’une session précédente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2133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aliser un travail en mode copier-coll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partir de plusieurs sources non citées ou non contextualisée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-1440" y="314172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hanger uniquement quelques mot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copier le texte intégralement (plagiat délibéré ou paraphraser de manière inadéquate)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6360" y="4581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Citer en omettan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guillemet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36360" y="5157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Calibri"/>
              </a:rPr>
              <a:t>Résumer sans attribue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idée à l’aute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4C2-D47E-4A45-9957-CAE5CBF5E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oneTexte 14"/>
          <p:cNvSpPr/>
          <p:nvPr/>
        </p:nvSpPr>
        <p:spPr>
          <a:xfrm>
            <a:off x="179280" y="5837400"/>
            <a:ext cx="878544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http://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920" y="115920"/>
            <a:ext cx="93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Ebrima"/>
              </a:rPr>
              <a:t>Plusieurs facteurs peuvent amener un.e étudiant.e à plagier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ne sait pas comment faire le travail demandé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-1440" y="1486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de la difficulté à s’organiser et à gérer son temp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-36360" y="2131920"/>
            <a:ext cx="9431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manque d’expérience en matière de bonnes pratiques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36360" y="2781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contourner les exigences ; il/elle pense que l’enseignant ne s’en rendra pas compt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34920" y="378936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ise uniquement à obtenir la note de passag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6360" y="436572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veut défier l’autorité ou perçoit qu’il y a peu de conséquences au plagiat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6360" y="537372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a peu d’intérêt pour le cours ou pour le champ d’étud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AC8-14BB-461A-9EA9-F7CCAFE15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oneTexte 11"/>
          <p:cNvSpPr/>
          <p:nvPr/>
        </p:nvSpPr>
        <p:spPr>
          <a:xfrm>
            <a:off x="179280" y="6275520"/>
            <a:ext cx="8785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Source : 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</a:rPr>
              <a:t>http://</a:t>
            </a:r>
            <a:r>
              <a:rPr b="0" lang="fr-FR" sz="17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www.bsp.ulaval.ca/docs/Le_plagiat_informer_sensibiliser_et_prevenir.pd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Ebrima"/>
              </a:rPr>
              <a:t>(Université Laval, Québec, Canad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34920" y="-100080"/>
            <a:ext cx="504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 plagiat : 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Il s’agit d’un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cte frauduleux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qui, lorsqu’il est découvert dans les travaux universitaires, est </a:t>
            </a:r>
            <a:r>
              <a:rPr b="1" lang="fr-FR" sz="2600" spc="-1" strike="noStrike">
                <a:solidFill>
                  <a:srgbClr val="a50021"/>
                </a:solidFill>
                <a:latin typeface="Ebrima"/>
              </a:rPr>
              <a:t>sanctionné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240" y="3068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ogiciel d’aide à la 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détection de plagiat (Compilatio.net)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vérification des contenus numériques (étudiants/enseignant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0" y="429264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Attention : ce n’est pas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parce qu’un document ou une information est librement accessible sur internet qu’elle peut être utilisée sans en mentionner l’auteur et l’origine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805360"/>
            <a:ext cx="9144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Toute utilisation d’un texte d’autrui </a:t>
            </a:r>
            <a:r>
              <a:rPr b="1" lang="en-GB" sz="2600" spc="-1" strike="noStrike">
                <a:solidFill>
                  <a:srgbClr val="a50021"/>
                </a:solidFill>
                <a:latin typeface="Ebrima"/>
              </a:rPr>
              <a:t>doit respecter </a:t>
            </a:r>
            <a:r>
              <a:rPr b="0" lang="en-GB" sz="2600" spc="-1" strike="noStrike">
                <a:solidFill>
                  <a:srgbClr val="a50021"/>
                </a:solidFill>
                <a:latin typeface="Ebrima"/>
              </a:rPr>
              <a:t>les règles de ci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EA34-B3FD-4BF6-B573-CCB329707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2133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es étudiants convaincus de plagiat peuvent être traduits devant la </a:t>
            </a:r>
            <a:r>
              <a:rPr b="0" lang="fr-FR" sz="2600" spc="-1" strike="noStrike">
                <a:solidFill>
                  <a:srgbClr val="c00000"/>
                </a:solidFill>
                <a:latin typeface="Ebrima"/>
              </a:rPr>
              <a:t>section disciplinaire de l'Université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4920" y="-162000"/>
            <a:ext cx="11306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Sanctions disciplinaires applicables :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0526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En fonction de la gravité des faits, les sanctions disciplinaires applicables aux usagers sont les suivantes</a:t>
            </a:r>
            <a:r>
              <a:rPr b="0" lang="fr-FR" sz="2600" spc="-1" strike="noStrike">
                <a:solidFill>
                  <a:srgbClr val="a50021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BFC-3301-44C6-98C8-E8C12F18B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270972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L’avertissement, le blâme, l’exclusion temporaire pour une durée maximale de cinq ans ou l’exclusion définitive de l’université ou de tout établissement public d’enseignement supérieur, avec ou sans sursis.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179280" y="115920"/>
            <a:ext cx="85694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Lectures web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oneTexte 3"/>
          <p:cNvSpPr/>
          <p:nvPr/>
        </p:nvSpPr>
        <p:spPr>
          <a:xfrm>
            <a:off x="250920" y="1557360"/>
            <a:ext cx="8497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1"/>
              </a:rPr>
              <a:t>Le plagiat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Service des bibliothèques de l'Université du Québec à Montré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2"/>
              </a:rPr>
              <a:t>Le plagiat, un mal qui frappe aussi la science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Passeur de sciences »,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3"/>
              </a:rPr>
              <a:t>« Février 2006 : bilan de l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4"/>
              </a:rPr>
              <a:t>’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5"/>
              </a:rPr>
              <a:t>analyse de 30 mémoires de DEA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Ebrima"/>
                <a:hlinkClick r:id="rId6"/>
              </a:rPr>
              <a:t>Les bibliothécaires face aux thèses plagiats</a:t>
            </a:r>
            <a:r>
              <a:rPr b="0" lang="fr-FR" sz="2400" spc="-1" strike="noStrike">
                <a:solidFill>
                  <a:srgbClr val="000000"/>
                </a:solidFill>
                <a:latin typeface="Ebrima"/>
              </a:rPr>
              <a:t> » (billet de blog « Archéologie du copier-coller »,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F117-5AC6-477C-8837-A2DF4B947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50920" y="442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a50021"/>
                </a:solidFill>
                <a:latin typeface="Arial"/>
                <a:ea typeface="Arial"/>
              </a:rPr>
              <a:t>Tutoriels sur le plagiat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0" y="1413000"/>
            <a:ext cx="91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Ebrima"/>
              </a:rPr>
              <a:t>« 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Comment éviter le plagiat ?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« Comment citer dans le texte ?</a:t>
            </a:r>
            <a:r>
              <a:rPr b="0" lang="en-GB" sz="2600" spc="-1" strike="noStrike">
                <a:solidFill>
                  <a:srgbClr val="000000"/>
                </a:solidFill>
                <a:latin typeface="Ebrim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»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Ebrima"/>
              </a:rPr>
              <a:t>(Service des bibliothèques de l'Université du Québec à Montré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649"/>
              </a:spcBef>
              <a:buClr>
                <a:srgbClr val="000000"/>
              </a:buClr>
              <a:buFont typeface="Ebri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392-EA76-4677-B0AE-DDD4C060C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8:53:43Z</dcterms:created>
  <dc:creator>François</dc:creator>
  <dc:description/>
  <dc:language>en-US</dc:language>
  <cp:lastModifiedBy>lacheret</cp:lastModifiedBy>
  <dcterms:modified xsi:type="dcterms:W3CDTF">2018-09-21T12:42:16Z</dcterms:modified>
  <cp:revision>96</cp:revision>
  <dc:subject/>
  <dc:title>Slide 1</dc:title>
</cp:coreProperties>
</file>